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A00D-19EF-45DC-8CDF-451C4736D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3207-813A-46CC-BB23-83D2FA1AA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A91A-6046-4DD3-8BC6-9C3470BB8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AF75-B07E-4519-88BB-39C1E1152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BCAA-E555-4F44-9623-204C80074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3F83-317B-4EA3-A460-9EC4DAE00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0326-C92F-4D89-B448-3C352E1CF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A437-6374-424D-BCF0-7ACB53688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8FBA-7028-42D1-9BC2-52FD5A17E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C3AB-0D06-4AF1-8867-67C80AF2B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DB55-DB5B-4074-BAF5-F12BC8B5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C98E-E5D7-49AB-8C20-7E6E5E30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0E2D0-6A32-4070-9001-62FF2718A9D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Berlin Sans FB"/>
              </a:rPr>
              <a:t>ICT Assessment – Key stage 3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ICT Mee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14/12.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rlin Sans FB"/>
              </a:rPr>
              <a:t>Level 5 exchanging and sharing inf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rcRect l="20835" t="21669" r="28126" b="17499"/>
          <a:stretch/>
        </p:blipFill>
        <p:spPr>
          <a:xfrm>
            <a:off x="357120" y="808200"/>
            <a:ext cx="8358120" cy="5802120"/>
          </a:xfrm>
          <a:prstGeom prst="rect">
            <a:avLst/>
          </a:prstGeom>
          <a:ln w="0">
            <a:noFill/>
          </a:ln>
        </p:spPr>
      </p:pic>
      <p:cxnSp>
        <p:nvCxnSpPr>
          <p:cNvPr id="73" name="Straight Arrow Connector 5"/>
          <p:cNvCxnSpPr/>
          <p:nvPr/>
        </p:nvCxnSpPr>
        <p:spPr>
          <a:xfrm flipH="1">
            <a:off x="642240" y="1856880"/>
            <a:ext cx="786600" cy="1072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4" name="TextBox 6"/>
          <p:cNvSpPr/>
          <p:nvPr/>
        </p:nvSpPr>
        <p:spPr>
          <a:xfrm>
            <a:off x="571680" y="714240"/>
            <a:ext cx="1643040" cy="11595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Information has been selected for a purpose, a variety of info and media has been use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5" name="Straight Arrow Connector 8"/>
          <p:cNvCxnSpPr/>
          <p:nvPr/>
        </p:nvCxnSpPr>
        <p:spPr>
          <a:xfrm flipH="1">
            <a:off x="6214680" y="642960"/>
            <a:ext cx="1215360" cy="1000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Straight Arrow Connector 11"/>
          <p:cNvCxnSpPr/>
          <p:nvPr/>
        </p:nvCxnSpPr>
        <p:spPr>
          <a:xfrm>
            <a:off x="1499040" y="1856880"/>
            <a:ext cx="857880" cy="1358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TextBox 12"/>
          <p:cNvSpPr/>
          <p:nvPr/>
        </p:nvSpPr>
        <p:spPr>
          <a:xfrm>
            <a:off x="6715080" y="714240"/>
            <a:ext cx="2428920" cy="916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resentations are fit for a  specific purpose and audi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8" name="Straight Arrow Connector 14"/>
          <p:cNvCxnSpPr/>
          <p:nvPr/>
        </p:nvCxnSpPr>
        <p:spPr>
          <a:xfrm>
            <a:off x="2213640" y="1928520"/>
            <a:ext cx="1572120" cy="3143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Berlin Sans FB"/>
              </a:rPr>
              <a:t>L5 Modelling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rcRect l="20835" t="14169" r="3123" b="24999"/>
          <a:stretch/>
        </p:blipFill>
        <p:spPr>
          <a:xfrm>
            <a:off x="142920" y="857160"/>
            <a:ext cx="4714920" cy="57373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2"/>
          <a:srcRect l="20312" t="14169" r="2604" b="5833"/>
          <a:stretch/>
        </p:blipFill>
        <p:spPr>
          <a:xfrm>
            <a:off x="4857840" y="1500120"/>
            <a:ext cx="4143240" cy="5072040"/>
          </a:xfrm>
          <a:prstGeom prst="rect">
            <a:avLst/>
          </a:prstGeom>
          <a:ln w="0">
            <a:noFill/>
          </a:ln>
        </p:spPr>
      </p:pic>
      <p:sp>
        <p:nvSpPr>
          <p:cNvPr id="82" name="TextBox 5"/>
          <p:cNvSpPr/>
          <p:nvPr/>
        </p:nvSpPr>
        <p:spPr>
          <a:xfrm>
            <a:off x="6572160" y="285840"/>
            <a:ext cx="2143080" cy="916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asked planned to suit purpose and audi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7"/>
          <p:cNvSpPr/>
          <p:nvPr/>
        </p:nvSpPr>
        <p:spPr>
          <a:xfrm>
            <a:off x="0" y="142920"/>
            <a:ext cx="2928960" cy="916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upil created own model and investigated the effects of changing dat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8"/>
          <p:cNvSpPr/>
          <p:nvPr/>
        </p:nvSpPr>
        <p:spPr>
          <a:xfrm>
            <a:off x="7786800" y="4214880"/>
            <a:ext cx="1143000" cy="17398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here is also some reflection within the piece of 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Level 6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1557360"/>
            <a:ext cx="8208720" cy="52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erlin Sans FB"/>
                <a:ea typeface="Arial"/>
              </a:rPr>
              <a:t>Pupils plan their tasks in detail for specific purposes and audience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erlin Sans FB"/>
                <a:ea typeface="Arial"/>
              </a:rPr>
              <a:t>They use ICT to create and refine their work using information from a range of sources, recognising the need for different styles for different audience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erlin Sans FB"/>
                <a:ea typeface="Arial"/>
              </a:rPr>
              <a:t>They use ICT to check accuracy and plausibility by comparing information from different sources, making choices to meet the needs of a specific purpose or audienc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erlin Sans FB"/>
                <a:ea typeface="Arial"/>
              </a:rPr>
              <a:t>They use databases to follow complex lines of enquiry and draw conclusion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erlin Sans FB"/>
                <a:ea typeface="Arial"/>
              </a:rPr>
              <a:t>They use models or simulations of increasing complexity, vary the rules within them and test hypothes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erlin Sans FB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erlin Sans FB"/>
                <a:ea typeface="Arial"/>
              </a:rPr>
              <a:t>Pupils have opinions about issues raised by the use of ICT and know the dangers associated with misuse of the internet/related technologi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Text Placeholder 2" descr=""/>
          <p:cNvPicPr/>
          <p:nvPr/>
        </p:nvPicPr>
        <p:blipFill>
          <a:blip r:embed="rId1"/>
          <a:stretch/>
        </p:blipFill>
        <p:spPr>
          <a:xfrm>
            <a:off x="2050920" y="2060640"/>
            <a:ext cx="5064120" cy="37987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042920" y="333360"/>
            <a:ext cx="7274160" cy="368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erlin Sans FB"/>
                <a:ea typeface="Arial"/>
              </a:rPr>
              <a:t>Level 6 Exampl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413000"/>
            <a:ext cx="176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179280" y="1197000"/>
            <a:ext cx="1513080" cy="1585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Pupils plan their tasks in detail for specific purposes and audiences (a planning sheet could be used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/>
          <p:nvPr/>
        </p:nvSpPr>
        <p:spPr>
          <a:xfrm>
            <a:off x="7236000" y="1197000"/>
            <a:ext cx="1657080" cy="20120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They use ICT to create and refine their work using information from a range of sources, recognising the need for different styles for different audience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250920" y="4437000"/>
            <a:ext cx="1368360" cy="15541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Pupils make choices to suit a specific audience and purpo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4432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Berlin Sans FB"/>
              </a:rPr>
              <a:t>How work is levelled in IC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erlin Sans FB"/>
              </a:rPr>
              <a:t>Most pieces of ICT work in cross curricular subjects will have certain characteristics of a particular level in I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erlin Sans FB"/>
              </a:rPr>
              <a:t>Pupils work in ICT should now show planning, developing and reflecting in order to reach higher leve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Berlin Sans FB"/>
              </a:rPr>
              <a:t>The POS also specifies that internet safety is taught to pupils (we do this through discreet ICT lesson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Berlin Sans FB"/>
              </a:rPr>
              <a:t>Level 3 characterist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Berlin Sans FB"/>
              </a:rPr>
              <a:t>Pupils begin to organise their tasks and use ICT to create, organise, amend and present information and ideas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Berlin Sans FB"/>
              </a:rPr>
              <a:t>They find information from a range of given sources and use ICT to search, sort and/or graph data to follow simple lines of enquiry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Berlin Sans FB"/>
              </a:rPr>
              <a:t>Pupils understand how changing one variable affects another in models or simulations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Berlin Sans FB"/>
              </a:rPr>
              <a:t>They store and retrieve work independently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Berlin Sans FB"/>
              </a:rPr>
              <a:t>Pupils send and receive information electronically, with support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Berlin Sans FB"/>
              </a:rPr>
              <a:t>They understand the use of a range of input and output devic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erlin Sans FB"/>
              </a:rPr>
              <a:t>Level 3 – Exchanging and sharing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rcRect l="20835" t="13333" r="42709" b="5833"/>
          <a:stretch/>
        </p:blipFill>
        <p:spPr>
          <a:xfrm>
            <a:off x="2428920" y="1000080"/>
            <a:ext cx="4227480" cy="5857920"/>
          </a:xfrm>
          <a:prstGeom prst="rect">
            <a:avLst/>
          </a:prstGeom>
          <a:ln w="0">
            <a:noFill/>
          </a:ln>
        </p:spPr>
      </p:pic>
      <p:sp>
        <p:nvSpPr>
          <p:cNvPr id="49" name="TextBox 5"/>
          <p:cNvSpPr/>
          <p:nvPr/>
        </p:nvSpPr>
        <p:spPr>
          <a:xfrm>
            <a:off x="142920" y="1571760"/>
            <a:ext cx="1857240" cy="10674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ICT  is used to create and present information and ideas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6929280" y="1214280"/>
            <a:ext cx="1571760" cy="17398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Limited information has been found from a range of sourc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Straight Arrow Connector 8"/>
          <p:cNvCxnSpPr/>
          <p:nvPr/>
        </p:nvCxnSpPr>
        <p:spPr>
          <a:xfrm flipH="1">
            <a:off x="6143400" y="1714680"/>
            <a:ext cx="786240" cy="72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erlin Sans FB"/>
              </a:rPr>
              <a:t>Level 3 – finding out information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rcRect l="19793" t="16667" r="48438" b="12502"/>
          <a:stretch/>
        </p:blipFill>
        <p:spPr>
          <a:xfrm>
            <a:off x="2286000" y="785880"/>
            <a:ext cx="4357800" cy="6072120"/>
          </a:xfrm>
          <a:prstGeom prst="rect">
            <a:avLst/>
          </a:prstGeom>
          <a:ln w="0">
            <a:noFill/>
          </a:ln>
        </p:spPr>
      </p:pic>
      <p:sp>
        <p:nvSpPr>
          <p:cNvPr id="54" name="TextBox 5"/>
          <p:cNvSpPr/>
          <p:nvPr/>
        </p:nvSpPr>
        <p:spPr>
          <a:xfrm>
            <a:off x="6786720" y="1071720"/>
            <a:ext cx="1785960" cy="17398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upils have used ICT to create, organise, amend and present information and ide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214200" y="2286000"/>
            <a:ext cx="2214720" cy="2288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hey find information from a range of given sources and use ICT to search, sort and/or graph data to follow simple lines of enquiry.  i.e. search eng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Berlin Sans FB"/>
              </a:rPr>
              <a:t>Level 4 characteristic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erlin Sans FB"/>
              </a:rPr>
              <a:t>Pupils broadly plan their tasks and combine a variety of information and media when creating and developing their ideas, with a sense of purpose and audienc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erlin Sans FB"/>
              </a:rPr>
              <a:t>They use ICT to select relevant information from a range of given sources, recognising that poor quality information and data yields unreliable resul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erlin Sans FB"/>
              </a:rPr>
              <a:t>Pupils begin to check the validity of data. They add and amend records in database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erlin Sans FB"/>
              </a:rPr>
              <a:t>They use ICT to explore patterns and relationships. They make simple predictions about how changing one variable affects another in models or simulation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erlin Sans FB"/>
              </a:rPr>
              <a:t>They send and receive information electronically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erlin Sans FB"/>
              </a:rPr>
              <a:t>Pupils discuss and begin to form opinions about some of the issues raised by the use of ICT and internet safety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erlin Sans FB"/>
              </a:rPr>
              <a:t>They use the internet/related technologies safely in accordance with given guideline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erlin Sans FB"/>
              </a:rPr>
              <a:t>Pupils manage their workspace effectively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erlin Sans FB"/>
              </a:rPr>
              <a:t>They show an awareness of the basic functions of hardware and software</a:t>
            </a: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erlin Sans FB"/>
              </a:rPr>
              <a:t>Level 4 – finding things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rcRect l="21877" t="14169" r="41667" b="8332"/>
          <a:stretch/>
        </p:blipFill>
        <p:spPr>
          <a:xfrm>
            <a:off x="2038320" y="928800"/>
            <a:ext cx="4462560" cy="5929200"/>
          </a:xfrm>
          <a:prstGeom prst="rect">
            <a:avLst/>
          </a:prstGeom>
          <a:ln w="0">
            <a:noFill/>
          </a:ln>
        </p:spPr>
      </p:pic>
      <p:cxnSp>
        <p:nvCxnSpPr>
          <p:cNvPr id="60" name="Straight Arrow Connector 5"/>
          <p:cNvCxnSpPr/>
          <p:nvPr/>
        </p:nvCxnSpPr>
        <p:spPr>
          <a:xfrm flipV="1">
            <a:off x="6213960" y="1285200"/>
            <a:ext cx="786600" cy="78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TextBox 6"/>
          <p:cNvSpPr/>
          <p:nvPr/>
        </p:nvSpPr>
        <p:spPr>
          <a:xfrm>
            <a:off x="7000920" y="928800"/>
            <a:ext cx="2143080" cy="11912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upil has combined a variety of info and media in developing their idea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Straight Arrow Connector 9"/>
          <p:cNvCxnSpPr/>
          <p:nvPr/>
        </p:nvCxnSpPr>
        <p:spPr>
          <a:xfrm flipH="1">
            <a:off x="6000120" y="1356840"/>
            <a:ext cx="1143720" cy="1715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TextBox 10"/>
          <p:cNvSpPr/>
          <p:nvPr/>
        </p:nvSpPr>
        <p:spPr>
          <a:xfrm>
            <a:off x="214200" y="1357200"/>
            <a:ext cx="1714680" cy="916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here is a sense of audience and purpos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11"/>
          <p:cNvSpPr/>
          <p:nvPr/>
        </p:nvSpPr>
        <p:spPr>
          <a:xfrm>
            <a:off x="6786720" y="4000680"/>
            <a:ext cx="2000160" cy="14655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upil has shown an awareness of the basic functions of the software they decided to u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68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erlin Sans FB"/>
              </a:rPr>
              <a:t>Level 4 - Modell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rcRect l="19793" t="19166" r="28126" b="19166"/>
          <a:stretch/>
        </p:blipFill>
        <p:spPr>
          <a:xfrm>
            <a:off x="857160" y="785880"/>
            <a:ext cx="7358040" cy="5857920"/>
          </a:xfrm>
          <a:prstGeom prst="rect">
            <a:avLst/>
          </a:prstGeom>
          <a:ln w="0">
            <a:noFill/>
          </a:ln>
        </p:spPr>
      </p:pic>
      <p:sp>
        <p:nvSpPr>
          <p:cNvPr id="67" name="TextBox 5"/>
          <p:cNvSpPr/>
          <p:nvPr/>
        </p:nvSpPr>
        <p:spPr>
          <a:xfrm>
            <a:off x="6572160" y="1071720"/>
            <a:ext cx="2000520" cy="22842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Pupil used ICT to explore patterns and relationships. They make simple predictions about how changing one variable affects another in models or simulation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6"/>
          <p:cNvSpPr/>
          <p:nvPr/>
        </p:nvSpPr>
        <p:spPr>
          <a:xfrm>
            <a:off x="6286680" y="3929040"/>
            <a:ext cx="2500200" cy="11595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They use ICT to select relevant information from a range of given sources, recognising that poor quality information and data yields unreliable result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Berlin Sans FB"/>
              </a:rPr>
              <a:t>Level 5 Characteristic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erlin Sans FB"/>
              </a:rPr>
              <a:t>Pupils plan their tasks for purpose and audience. They combine a variety of information and media when creating, refining and developing their own ideas and informatio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erlin Sans FB"/>
              </a:rPr>
              <a:t>Their presentations are fit for purpose and meet the needs of their intended audienc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erlin Sans FB"/>
              </a:rPr>
              <a:t>They search for and select information from a range of sources, considering relevance, plausibility and accuracy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erlin Sans FB"/>
              </a:rPr>
              <a:t>Pupils create their own databases and search or sort on more than one field to follow particular lines of enquir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erlin Sans FB"/>
              </a:rPr>
              <a:t>They create their own models or simulations and investigate the effect of changing data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erlin Sans FB"/>
              </a:rPr>
              <a:t>They use ICT to send and receive files electronically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erlin Sans FB"/>
              </a:rPr>
              <a:t>Pupils form opinions about issues raised by the use of ICT and are aware of dangers associated with misuse of the internet/related technologie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erlin Sans FB"/>
              </a:rPr>
              <a:t>They recognise the implications of using network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3T13:39:42Z</dcterms:created>
  <dc:creator>Janine</dc:creator>
  <dc:description/>
  <dc:language>en-US</dc:language>
  <cp:lastModifiedBy>jhawkins</cp:lastModifiedBy>
  <dcterms:modified xsi:type="dcterms:W3CDTF">2009-12-14T14:55:18Z</dcterms:modified>
  <cp:revision>39</cp:revision>
  <dc:subject/>
  <dc:title>ICT Assessment</dc:title>
</cp:coreProperties>
</file>